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C0A-3D86-44D8-8D33-128561A9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8EB-EC84-4D2C-851C-2B599E0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C6865-570D-4F7E-8335-BCF98C00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DC55E-8F3F-4D14-91B1-6BF1EFD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EAC1E-F51E-4DDF-8FB3-E59DF9C2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03B93-41F8-4E8B-B09E-7BB1A7B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F8159-7C03-40DC-9621-98DC7DD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12BCF-5D40-418E-A369-24DEC80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8DFEF-AEFA-44BB-AEC5-08E1692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A2A94-0ACD-4C6F-8672-287943F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335F5-5AD2-4885-BCEB-F6D6CE3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05B30-D537-4133-A489-F3C7C2E0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4EC-13D4-4208-B629-C58083CD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C295B-1917-46C8-91E1-B135D27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69F03-7472-4A14-9F99-6E104D1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711F7-E094-437B-84EB-0BE084AF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35D14-3201-4BED-97F3-FA41A5E5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D173F-9198-4085-A4BC-C8B6733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3A784-A01F-4205-8A1D-BCC5C35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7B273-4FB2-46E8-A187-7D3ED48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6C8E6-8D5D-4F57-AD7F-5720567A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AB30E-DC52-4BFA-B93B-46C910F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8E9C3-C3A2-4187-A12B-EB3EAA64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71C-1991-4F88-9785-24A85D3F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893D3-6F5C-46BD-A23F-65D13A63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17BF40-CA58-491E-81CF-335886D2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DC868-55F7-4BED-B668-62BBA44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AF2013-0D12-48E5-BCD4-0A86F18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BABD10-56F1-4556-AE99-14AA5B7E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E26C3A-3C20-4C81-A1C7-53A65856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A435E0-F77B-4EF5-AB26-F22031C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8256CB-CAE7-423C-9B1E-7EDCEB9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1005F3-99ED-4633-B269-6A76C00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21DE64-BEBC-4FD8-82DD-C56F80B1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1E4813-C8BE-4AF1-B9E2-43DD959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9677E-6B6D-4FEE-A40A-B2E4F5D9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9F1D5D-3871-4871-BF9C-AC30631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61902-EB90-4731-B871-0A518C58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CD10A-AE02-41B5-86F1-B6E61BE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19055-7A99-4B0B-B597-4CC60A6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0C9B2-8F7C-49B8-A50B-AF5FEBBE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8421-9EAF-4E2A-8B5F-FB02DF81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D9C57-8D5B-4A21-BAB2-BDD0937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62596-1C67-4203-86BF-E44926A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1BAA1-3440-4BCC-8C98-080D884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FA19C-C7C6-4068-B063-DF461F9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00A73-C0F1-466B-930B-3A7EC73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5F386-2D5D-4514-8E6D-CE26D767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43AC1-21B1-4C75-8772-CFCEEDF6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EA0C89-A323-45FE-A108-B2840102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40584B-C817-4BA5-991F-29C50B6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311488-D894-45E5-840A-FDDDAC58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FC9EF1-8EA9-4AD3-8266-1C6BB0A4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E0F828-C154-4E8D-8B89-08928C75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AD3550-41D5-4811-9815-B13F138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4E1C65-7D1D-498D-A660-D906CF3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CD87B7-B7DF-484C-8F2C-661D9F3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27151B-B39E-4330-B793-6AE6B50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6B688A-ADDF-4B50-9A74-8EAB9100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839BDC-41EB-4121-8BCF-A929CB12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69E753-9E10-43FF-B31D-1E61D522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743C0-18D2-46AE-A262-0CBF77FE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63DCF-F37E-42CB-80B9-560C3B9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15092-A72D-4151-B920-A1894F4E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917AF-60A4-448C-9BB9-1A53AF9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90F21-2E90-4F6F-B77F-1D7A7A8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2D8DA-A33C-47C8-8DC6-05834DB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A3715-C7E1-4AFE-AB95-A3975B06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B833C-334C-4B1F-8FAF-35FF7B6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FD170-36E5-4761-8F4C-52686B4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03BBA-1218-4C27-9801-08A369F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53FA8-4FBC-49E4-8329-03EF1497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0CF33-B300-4D9F-B32C-8F42A15A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C2A52-BA14-4531-AC66-C217D06B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12EB3-AFDB-4969-957A-7C2C72C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CE258-F6B1-44E5-AD54-82197C5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999EE-9F9D-42AE-891F-A8567957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64411-BA16-41D1-B487-ED02B96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CEAD2-693F-41E1-8D13-8CFF51F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147F8-7365-4E17-8D41-22FC103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F0B38-29E2-4AE3-8A6A-90257DA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BE81F-B81D-4C11-81F1-7F66853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23ECB-98B7-4380-A2EC-0ED6E55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EBADE-4464-4B45-B133-06919CFB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3A301-21F5-4323-9421-0129CE7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13903-5D92-48E4-A125-4481EA4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4EA2C-1386-4431-9FAA-10529F4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5C585-BA3C-40D3-99D5-39B74BD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7CE72-F1C7-4E13-8AD1-D741495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671AD-E34E-4DA5-B459-1DA40E73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3EA1C-C204-44D4-99EA-206A73D8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62101-2C61-40E5-A76C-33864F0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426-5025-441D-8A81-B043CEAF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15F62-7C18-45C4-86DF-C56AC9D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4FDC6-42D4-4C01-A473-E32CB212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55257-8012-43ED-8F1A-3DC4948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4F876-AF2F-4AEF-836A-5B690BB4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E6B3B-18F1-470C-98B6-26EAC695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496C6-9593-48CF-A481-3058517E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A505A-7466-447B-82A3-DC74617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6FE48-7C15-4241-90F2-48A7DA38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522F8-DEC3-4D4C-BE80-1999E363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A396E-9A54-477B-94AC-1BE96628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4B17A-8BC0-44E8-B849-2805225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F5DC1-158F-474B-8A24-71C2F05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307DC-EA60-4762-A459-6734852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C9BE1-5233-4657-8AF3-AED5CD1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181FD-55E0-4B1F-86FB-BB863BB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61877-D68D-43BA-8318-1D5F014A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C1B76-BAD9-4BA4-95AC-5AC84084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E582A-FF6A-4DF6-A7DB-69B97917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118EE-51ED-45B5-9CBD-C76C728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0C4D8-8947-4255-8377-04AF28CC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C1AE4-B67D-4093-9911-C4B7227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ECB43-B762-44CE-BCE9-3F419A2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69D46-9872-4450-AAF4-E3FC45CF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FAB44-972A-44FB-A5CF-D9F5CEA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BF876-9ECF-461E-87EF-B9BA3A1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D17D0-EC8D-4EA3-9367-054DE17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5A34A-6E14-46A3-97B5-812B0F4D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9DB2E-EA75-4DD1-91B2-56C6FAF9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DC1C9-BDBB-4CE5-AC21-DEDC5760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A55DC-2A7B-4654-98F2-F12BCCE7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41985-1D85-4BFE-AB39-05C5A8C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8905A-B050-452A-AB8F-D08A9F6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BA76A-F1DD-4AF6-BEDB-906D5AF8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ED5DA-839C-4B3C-A18D-0FCDEE5D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9D0E0-F228-4F5C-A3C0-EE227DE3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36EF8-BF48-453E-A8C5-EC3B0CA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DF8D4-F08F-4273-B999-6838C8C2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BDB9F-AE19-45C2-B565-18A33D8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DB5C4-7205-4F61-9945-AC83584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28D94-EA5B-46AE-AE91-DF76472F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F61DB-7182-44E5-8B2B-3BA26F7E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52977-A68D-4CD9-9D15-B05EB2A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8D01C-7FEF-4F7A-9C47-825007C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A7736-9284-471D-A3C6-87D91C8C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C8A90-CA51-404A-ACED-D7A13AB0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D9DE4-8AD5-4E00-B83E-7470EA21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616C8-AB70-4423-A9F2-921738E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BF55A-E693-4E75-9F59-00D7E65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46086-6D88-4E93-86D5-9B6795B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EAEE6-24C5-4F81-9994-90ED054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9BC4D-61D0-45E3-B09A-B653D2AC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4508A-0F3F-4564-A4FC-85651BD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2E32C-2FB9-4E40-AAA3-31961AA9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2CCAD-7E45-4331-ADB1-10AE7F57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333A1-52D1-4EB7-9C93-126996A2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CACC8-4E63-478F-AF17-C169806D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8A42F-1660-4B4A-B76D-640B0240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B4673-527E-4C3C-BD43-9451353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167-A34B-49EF-A1E1-A925BA0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7D8F9-EA37-4FC3-BD99-DFE961D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FF6CC-C44F-414F-991A-BA2090B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AFBDE-3630-4861-A629-B9F681C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D0908-C779-4618-93AF-D76A5E4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EC3B0-15AD-492E-A5A1-90066444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7BFB0-B60D-4009-9AE2-DD1C99DE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ADA7B-6F45-49A5-99BF-68C1895A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5569C-C1ED-495D-A4B5-382335A7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8E8AA-B8F0-4C1A-80A8-E2ADCEB9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35D61-C8B6-4CE6-96FB-3EC3860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ADF-F153-4844-B899-5FF0FB1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33B3E-48FC-4EA6-B3AC-80B03F8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09F81-FA1F-4DF3-8656-F6CD49F0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64183-C78A-4099-851A-020E8D20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B9BD5-BBFB-46F5-990E-7409A7B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D609C-E165-4A61-9125-53A388E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CE02F-A923-46E6-8536-C5F5D577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14FEA-741E-451B-935F-B64D85B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019BD-5EC9-4572-A230-ADC0B47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1A327-0C11-43EB-B5CD-00AA0E53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23F-8B2A-4032-B3E0-BB2A77D0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F5D-FB13-47E1-845D-009B692F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88A67B-4B7A-49A6-9B90-B555B6EB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E1CE8D-91C2-46B5-875A-D034C32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797475-02D4-4BFC-9DCB-A38AE33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87554-2AC8-4245-BB74-934FC5CF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B2613D-8B13-4FB2-A9D4-F57D412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0BA44-5478-4117-9F08-D4499A1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6FC32B-01BD-4F4D-AAD5-202D4C1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A133C5-22F7-4E30-998E-E72A9E5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07ADD-C411-4609-BCCF-5F87F02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7FB-421A-445D-847E-9E9CDF7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9424F-7021-4091-8EFE-873B4AD8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1FB6E-BEDF-4BFC-A22F-84C8688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24BEA3-830E-4F76-B0A3-D0F52509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CAC7B3-B046-477A-B6D0-36B0509B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C8F77-A922-49DE-B040-D6CF9328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ACCFA2-1335-468B-94EA-EBADCC3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D03B6-772A-44D3-B7C2-34FF55C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81FF9-E523-45D9-83DC-30880E7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68AB8-44DC-4A94-AD42-EB39ACC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A75950-C35A-48D6-AE38-E314107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C6D-72B7-4DA7-BA46-EDCE1B5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D05CCA-930B-487F-A429-44D69FC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0CD510-8391-402B-A6E1-E108DA5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9DC5B-367C-45E2-AE7F-85703D1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377E8-5A85-4C0A-BC50-D75E50F5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C1DF18-B015-46B1-8103-858CFDC2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D2A26-5358-4E98-8DD1-FD9A14A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1A2E7-2440-490E-8C1A-711F09D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92167A-1A27-4115-842E-666BD11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08469E-A7B3-4095-BD57-13CCF592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AA423D-D332-4CEE-AB53-1F8EBF9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29B-7124-4B5D-8825-2BBDE08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F73A4-F28C-4BA0-963F-573057D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E2DD85-9B4F-4F70-9184-7D84C23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AD483E-D6EE-417C-917D-66322D94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38891A-CF08-4FFA-B3A9-D7BF203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8DC24D-8CB5-4734-9692-C49830E7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48E717-6F24-4D95-B7D3-C616C47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41567-248C-4180-A8C8-29F5EF82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60DCE-C52E-4A3B-A32E-681893AB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84DED-B65B-4BB6-B3EF-95AA11D3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55471-FCA4-4261-8836-23C91CA2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1F72F-D98A-4D57-B3D4-B34EE46B490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C83C9-63FF-4AFD-8DA9-B2D7E3A9B11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D9497-3608-46CE-92F8-F18BCC7B691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86182-4D24-4AD5-802D-8C17660CA1F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F51D0-7BAA-4BE1-8155-079B8982778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834EB-CCB5-4D9E-8543-1969218A706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60D9D-1769-4838-B4DD-A9E7BA2B75B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35DFF-9207-44B2-9993-2DA170720EF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8AD93-9555-46CC-B942-F99753EB08E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F8B92-B365-4900-99EA-72FA41789E6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771EB-6833-48C4-ABD7-CA66FF702B1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4A301-FA84-4373-A21A-CD92936668B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F4D9D-DA47-4D86-AB4A-C9AFC4FB176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F4911-933C-4226-84C6-85374765EB2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E9001-540C-4A1C-9A4C-C7FD7A8B962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572FE-0791-4163-B373-68EB6E616BE7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AE5B-B1F0-4373-9731-9FB0C81EBA1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CDE2B-9419-420C-B46D-42B5F123227E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79C13-75D9-4EF6-98E0-4F47961D6D7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9C54F-DFAE-4481-ABE1-DA1C6B3C5D1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107C7-821B-4413-A6A5-604E1CA5289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66CEC-F6F4-4AFB-99A9-F6C814C4D5A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E9B27-F515-4528-97A0-9E3582C4434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33D9F-1226-40E1-8D6F-81615880306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44556-AC6D-4851-ACBD-8BF8FF35816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F08CC-D0AE-4E36-815D-ED2E5496FEA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2AF2F-0AE4-47C8-98A5-86C7BE22D4D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DE550-7DF8-44B7-8DB6-4D617CE7A26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452BF-1EE9-4325-8593-7E00F2EF6B0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9C4F6-B3F6-41DF-8419-DF7CFB17D3E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0A899-B747-4A5A-8E69-7D09483040B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8ED30-A045-489A-BBA5-4F8665A7B123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854AD-D897-4DB6-9BCA-7CB1B5A63BA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B8BDB-8369-4243-969A-A15E21F61A8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E80FB-2870-468D-AD3A-0A2FB7B436D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44A31-5D60-45EC-928D-F0321F7E1E8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79CBE-3626-45BC-A8A3-657000AE561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39193-DDDA-4CC7-A29C-DAEF03CEFF5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CD05-3875-48CA-B524-18C66337BE9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o No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95959"/>
                </a:solidFill>
                <a:latin typeface="Rockwell"/>
              </a:rPr>
              <a:t>Why do we use ramps to move heavy objects to higher places? </a:t>
            </a:r>
            <a:endParaRPr b="0" lang="en-US" sz="43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4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3" name="Picture 19" descr="wedge"/>
          <p:cNvPicPr/>
          <p:nvPr/>
        </p:nvPicPr>
        <p:blipFill>
          <a:blip r:embed="rId1"/>
          <a:stretch/>
        </p:blipFill>
        <p:spPr>
          <a:xfrm>
            <a:off x="6064200" y="4068720"/>
            <a:ext cx="199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5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6" name="Picture 17" descr="plane"/>
          <p:cNvPicPr/>
          <p:nvPr/>
        </p:nvPicPr>
        <p:blipFill>
          <a:blip r:embed="rId1"/>
          <a:stretch/>
        </p:blipFill>
        <p:spPr>
          <a:xfrm>
            <a:off x="6093000" y="4648320"/>
            <a:ext cx="1962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6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crew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9" name="Picture 5" descr="D:\IMAGES.WMF\TOOLS\HAND\TOLHN076.WMF"/>
          <p:cNvPicPr/>
          <p:nvPr/>
        </p:nvPicPr>
        <p:blipFill>
          <a:blip r:embed="rId1"/>
          <a:stretch/>
        </p:blipFill>
        <p:spPr>
          <a:xfrm>
            <a:off x="5919840" y="3205080"/>
            <a:ext cx="21351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Simple Machine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or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Work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: the amount of force applied to an object to move it a distance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Work =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Force </a:t>
            </a:r>
            <a:r>
              <a:rPr b="0" lang="en-US" sz="4800" spc="-1" strike="noStrike">
                <a:solidFill>
                  <a:srgbClr val="000000"/>
                </a:solidFill>
                <a:latin typeface="Rockwell"/>
              </a:rPr>
              <a:t>x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 Distance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3366"/>
                </a:solidFill>
                <a:uFillTx/>
                <a:latin typeface="Rockwell"/>
              </a:rPr>
              <a:t>Simple Machin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Rockwell"/>
              </a:rPr>
              <a:t>A machine makes work easier by changing at least one of three factors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Distance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Force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95959"/>
                </a:solidFill>
                <a:uFillTx/>
                <a:latin typeface="Rockwell"/>
              </a:rPr>
              <a:t>Direction 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112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Times New Roman"/>
                <a:ea typeface="Times New Roman"/>
              </a:rPr>
              <a:t>Two Types of Machines Exist: Simple Machines and Compound Machine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8" name="Picture 5" descr="The Six Simple Machines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mpound Machin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Rockwell"/>
              </a:rPr>
              <a:t>A compound machine is made of </a:t>
            </a:r>
            <a:r>
              <a:rPr b="1" lang="en-US" sz="4800" spc="-1" strike="noStrike" u="sng">
                <a:solidFill>
                  <a:srgbClr val="595959"/>
                </a:solidFill>
                <a:uFillTx/>
                <a:latin typeface="Rockwell"/>
              </a:rPr>
              <a:t>2 or more </a:t>
            </a:r>
            <a:r>
              <a:rPr b="0" lang="en-US" sz="4800" spc="-1" strike="noStrike">
                <a:solidFill>
                  <a:srgbClr val="595959"/>
                </a:solidFill>
                <a:latin typeface="Rockwell"/>
              </a:rPr>
              <a:t>simple machines.</a:t>
            </a:r>
            <a:endParaRPr b="0" lang="en-US" sz="4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1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v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589640" y="4267080"/>
          <a:ext cx="3465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9640" y="4267080"/>
                    <a:ext cx="3465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2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7" name="Picture 9" descr="axle"/>
          <p:cNvPicPr/>
          <p:nvPr/>
        </p:nvPicPr>
        <p:blipFill>
          <a:blip r:embed="rId1"/>
          <a:stretch/>
        </p:blipFill>
        <p:spPr>
          <a:xfrm>
            <a:off x="5897520" y="430380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P3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type of simple machine is pictured here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Pul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eel and Ax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clined Pla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d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0" name="Picture 5" descr="BD05165_[1]"/>
          <p:cNvPicPr/>
          <p:nvPr/>
        </p:nvPicPr>
        <p:blipFill>
          <a:blip r:embed="rId1"/>
          <a:stretch/>
        </p:blipFill>
        <p:spPr>
          <a:xfrm>
            <a:off x="5272200" y="3760920"/>
            <a:ext cx="27828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4:00Z</dcterms:created>
  <dc:creator>Caroline Roth</dc:creator>
  <dc:description/>
  <dc:language>en-US</dc:language>
  <cp:lastModifiedBy>Caroline Roth</cp:lastModifiedBy>
  <dcterms:modified xsi:type="dcterms:W3CDTF">2011-02-22T12:48:45Z</dcterms:modified>
  <cp:revision>8</cp:revision>
  <dc:subject/>
  <dc:title>Bellringer</dc:title>
</cp:coreProperties>
</file>